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054-2167-41B4-9C67-EECE9C8E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37B-EF1B-47AB-8201-22B15CE0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5359-D267-4F1F-9F19-A08E2BBF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BFBE-CD2A-4C5A-AD21-4703B557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252E-69E2-4895-99C9-EE26E848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598-55A1-4B06-B98E-2CCB3211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257B-7559-4C6D-A13C-7C8DE249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AC2-60AD-407F-AFCC-DEF110E0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AED-6958-4B1D-B830-0C28A039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DD2D-8614-4C80-9D7E-1BA4FD5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835-6AD0-4EE4-8F26-44FC1778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212-B1FF-400B-9E49-418FABFA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CE34-DD02-4BE3-932B-56C34CBF2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7040" y="942840"/>
            <a:ext cx="8734680" cy="149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209680" y="1371600"/>
            <a:ext cx="9907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1371600"/>
            <a:ext cx="5335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86400" y="1371600"/>
            <a:ext cx="11430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1752480"/>
            <a:ext cx="129564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1676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2133720"/>
            <a:ext cx="6858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057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/phrases/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52280" y="2971800"/>
            <a:ext cx="8801280" cy="685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81080" y="2971800"/>
            <a:ext cx="6858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2971800"/>
            <a:ext cx="6858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43800" y="2895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352680"/>
            <a:ext cx="23623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907920"/>
            <a:ext cx="8686800" cy="153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587760"/>
            <a:ext cx="8839440" cy="144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/phrases/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1523880"/>
            <a:ext cx="11430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4191120"/>
            <a:ext cx="114300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3920" y="914400"/>
            <a:ext cx="8696160" cy="314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52280" y="152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pply the missing words/phrases/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2895480"/>
            <a:ext cx="43434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3200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2:04:13Z</dcterms:created>
  <dc:creator>Harry S. Mills</dc:creator>
  <dc:description/>
  <dc:language>en-US</dc:language>
  <cp:lastModifiedBy>Harry S. Mills</cp:lastModifiedBy>
  <dcterms:modified xsi:type="dcterms:W3CDTF">2007-12-29T22:40:26Z</dcterms:modified>
  <cp:revision>5</cp:revision>
  <dc:subject/>
  <dc:title>Slide 1</dc:title>
</cp:coreProperties>
</file>